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8004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2857680" y="514080"/>
            <a:ext cx="3427200" cy="257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376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P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B621BB-F6CC-4BC2-B2C0-5ED9FC6E8F5F}" type="slidenum">
              <a:rPr b="0" lang="es-P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077D0E-9141-4E5C-BBD0-1E3A9B9CE23A}" type="slidenum">
              <a:rPr b="0" lang="es-P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54F2AD-D142-4D8B-A2CE-84DC97795CE9}" type="slidenum">
              <a:rPr b="0" lang="es-P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1B6C54-9254-4121-930D-96CB93A5F30A}" type="slidenum">
              <a:rPr b="0" lang="es-P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79D939-EA13-40C3-8489-8508BD61135C}" type="slidenum">
              <a:rPr b="0" lang="es-P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8ADDE9-FAAD-4F53-92C6-7D795164FE98}" type="slidenum">
              <a:rPr b="0" lang="es-P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57AC2B-4A7A-460B-8C2A-C30ED6928B72}" type="slidenum">
              <a:rPr b="0" lang="es-P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C0B614-AE69-4995-A954-A9DE41E954CC}" type="slidenum">
              <a:rPr b="0" lang="es-P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08E832-F2DA-4E58-91BD-91AC622D4F6D}" type="slidenum">
              <a:rPr b="0" lang="es-P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94E653-9724-4829-848C-DE593E94B952}" type="slidenum">
              <a:rPr b="0" lang="es-P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55FA-175B-4F57-92FF-986CB5927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2E83-ECFE-469F-B159-48970D94D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6A50-5F6E-480E-9FCE-4A118852C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4D59E-A2C3-41FE-B0C1-FEED1CC07D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397F-837B-47FE-BB38-2A8F2B5960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7807-F082-48CF-9ED8-38B3762BE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79AFA-9467-4914-8DE3-EAB0AC54EA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594E-D3EC-4409-906F-CD5EF7B48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42B7C-6EBD-4F51-B2C3-7F2210E1E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6AF3-4499-46BC-8BED-0C737B8A4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EAA0-49AC-46B5-9EE7-2234F58BE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47F96-0473-4E46-8D7F-2CD298140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P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E1FAF3-D5B2-4DAB-BEC0-F693E0E1412E}" type="slidenum">
              <a:rPr b="0" lang="es-P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MAPA%20CONCEPTOS%20COMPUTADORA.doc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duteka.org/modulos.php?catx=4&amp;idSubX=88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duteka.org/modulos.php?catx=4&amp;idSubX=88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106992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MAPAS DE CONCEPTOS</a:t>
            </a:r>
            <a:br>
              <a:rPr sz="4000"/>
            </a:br>
            <a:br>
              <a:rPr sz="4000"/>
            </a:b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Organizadores 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Continuación:  Mapas de concep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447920"/>
            <a:ext cx="82296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811080" indent="-811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Ejempl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709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  <a:ea typeface="Arial"/>
              </a:rPr>
              <a:t>¿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  <a:ea typeface="DejaVu Sans"/>
              </a:rPr>
              <a:t>cuando usted desea esquematizar una información para estudiar?  Usted trabaja un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3581280"/>
            <a:ext cx="38862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2960" indent="-45576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97136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Primer 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2960" indent="-45576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97136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Segundo 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576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97136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A. Sub 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576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97136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B. Sub 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576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97136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1.  Sub sub 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576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97136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</a:t>
            </a: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2. Sub sub 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576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97136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III.  Tercer 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971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8077320" y="5791320"/>
            <a:ext cx="609480" cy="838080"/>
          </a:xfrm>
          <a:custGeom>
            <a:avLst/>
            <a:gdLst>
              <a:gd name="textAreaLeft" fmla="*/ 81360 w 609480"/>
              <a:gd name="textAreaRight" fmla="*/ 528120 w 609480"/>
              <a:gd name="textAreaTop" fmla="*/ 152280 h 838080"/>
              <a:gd name="textAreaBottom" fmla="*/ 609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55" stAng="-5400000" swAng="5400000"/>
                <a:lnTo>
                  <a:pt x="21600" y="11782"/>
                </a:lnTo>
                <a:arcTo wR="21600" hR="7855" stAng="0" swAng="3277398"/>
                <a:lnTo>
                  <a:pt x="5400" y="21351"/>
                </a:lnTo>
                <a:lnTo>
                  <a:pt x="0" y="17673"/>
                </a:lnTo>
                <a:lnTo>
                  <a:pt x="5400" y="13496"/>
                </a:lnTo>
                <a:lnTo>
                  <a:pt x="5400" y="15460"/>
                </a:lnTo>
                <a:arcTo wR="21600" hR="7855" stAng="3277398" swAng="-2955593"/>
                <a:lnTo>
                  <a:pt x="20914" y="9818"/>
                </a:lnTo>
                <a:arcTo wR="21600" hR="7855" stAng="-321805" swAng="-5078195"/>
                <a:close/>
              </a:path>
              <a:path fill="darkenLess" w="21600" h="21600">
                <a:moveTo>
                  <a:pt x="0" y="0"/>
                </a:moveTo>
                <a:arcTo wR="21600" hR="7855" stAng="-5400000" swAng="5400000"/>
                <a:lnTo>
                  <a:pt x="21600" y="11782"/>
                </a:lnTo>
                <a:arcTo wR="21600" hR="7855" stAng="0" swAng="-321805"/>
                <a:lnTo>
                  <a:pt x="20914" y="9818"/>
                </a:lnTo>
                <a:arcTo wR="21600" hR="7855" stAng="-321805" swAng="-5078195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Continuación:  Mapas de concep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De acuerdo a William Bla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  <a:ea typeface="DejaVu Sans"/>
              </a:rPr>
              <a:t>Nuestras mentes trabajan como los sitios de Web:  grupos de páginas, ideas, conceptos que se unen conjunt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  <a:ea typeface="DejaVu Sans"/>
              </a:rPr>
              <a:t>Además, al igual que Ausubel, indica que el aprendizaje combina lo que usted ya sabe con lo que desea saber y vincula esta nueva información dentro de los depósitos de conoci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Continuación:  Mapas de concep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PR" sz="2800" spc="-1" strike="noStrike">
                <a:solidFill>
                  <a:srgbClr val="000000"/>
                </a:solidFill>
                <a:latin typeface="Arial"/>
                <a:ea typeface="Arial"/>
              </a:rPr>
              <a:t>¿Cuándo hacer el map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2438280"/>
          <a:ext cx="8229600" cy="389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144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P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organizar un tem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P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rar un aprendizaje más profun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P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r viejo y nuevo conocimient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P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asar y prepararse para exámen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 gridSpan="2"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P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ar notas/apu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12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P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bicar nuevas ideas en una estructur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P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bellino de ide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 gridSpan="2"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s-P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unicar ideas complej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Continuación:  Mapas de concep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El estudiante creará un mapa de conceptos que incluya una jerarquía de por lo menos, cuatro nive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Incluirá un mínimo de tres relaciones o frases descriptivas y por lo menos, un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exión o relaciones conectadas y un ejemp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a la creación del mismo, debe considerarse el concepto </a:t>
            </a:r>
            <a:r>
              <a:rPr b="0" lang="es-PR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istema computadorizado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, sus componentes, los dispositivos o periferales básicos (equipo físico o hardware) y su interac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99920" y="1295280"/>
            <a:ext cx="7810560" cy="5224680"/>
            <a:chOff x="799920" y="1295280"/>
            <a:chExt cx="7810560" cy="5224680"/>
          </a:xfrm>
        </p:grpSpPr>
        <p:sp>
          <p:nvSpPr>
            <p:cNvPr id="87" name=""/>
            <p:cNvSpPr/>
            <p:nvPr/>
          </p:nvSpPr>
          <p:spPr>
            <a:xfrm>
              <a:off x="800280" y="1295280"/>
              <a:ext cx="7810200" cy="52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913360" y="3733920"/>
              <a:ext cx="62064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00720" y="3733920"/>
              <a:ext cx="51444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51160" y="1919160"/>
              <a:ext cx="148608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1000" spc="-1" strike="noStrike">
                  <a:solidFill>
                    <a:srgbClr val="660066"/>
                  </a:solidFill>
                  <a:latin typeface="Arial"/>
                </a:rPr>
                <a:t>Palabra de enl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41640" y="1676520"/>
              <a:ext cx="1800" cy="2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32280" y="2122560"/>
              <a:ext cx="144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879560" y="1919160"/>
              <a:ext cx="1633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70400" y="1919160"/>
              <a:ext cx="1515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81360" y="1919160"/>
              <a:ext cx="144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15160" y="1919160"/>
              <a:ext cx="144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66920" y="2282760"/>
              <a:ext cx="1116000" cy="365040"/>
            </a:xfrm>
            <a:prstGeom prst="flowChartAlternateProcess">
              <a:avLst/>
            </a:prstGeom>
            <a:solidFill>
              <a:srgbClr val="bbe0e3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800" spc="-1" strike="noStrike">
                  <a:solidFill>
                    <a:srgbClr val="990000"/>
                  </a:solidFill>
                  <a:latin typeface="Times New Roman"/>
                </a:rPr>
                <a:t>CONCEPT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800" spc="-1" strike="noStrike">
                  <a:solidFill>
                    <a:srgbClr val="990000"/>
                  </a:solidFill>
                  <a:latin typeface="Times New Roman"/>
                </a:rPr>
                <a:t>PRINCIP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5760" y="2266920"/>
              <a:ext cx="1103400" cy="380880"/>
            </a:xfrm>
            <a:prstGeom prst="flowChartAlternateProcess">
              <a:avLst/>
            </a:prstGeom>
            <a:solidFill>
              <a:srgbClr val="bbe0e3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800" spc="-1" strike="noStrike">
                  <a:solidFill>
                    <a:srgbClr val="990000"/>
                  </a:solidFill>
                  <a:latin typeface="Times New Roman"/>
                </a:rPr>
                <a:t>CONCEPTO PRINCIP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46800" y="2266920"/>
              <a:ext cx="1069920" cy="392040"/>
            </a:xfrm>
            <a:prstGeom prst="flowChartAlternateProcess">
              <a:avLst/>
            </a:prstGeom>
            <a:solidFill>
              <a:srgbClr val="bbe0e3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800" spc="-1" strike="noStrike">
                  <a:solidFill>
                    <a:srgbClr val="990000"/>
                  </a:solidFill>
                  <a:latin typeface="Times New Roman"/>
                </a:rPr>
                <a:t>CONCEPTO PRINCIP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24680" y="2162160"/>
              <a:ext cx="981000" cy="48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MX" sz="7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1</a:t>
              </a:r>
              <a:r>
                <a:rPr b="0" lang="es-MX" sz="6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° NIVEL  JERARQUÍ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6920" y="2914560"/>
              <a:ext cx="1633680" cy="22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1000" spc="-1" strike="noStrike">
                  <a:solidFill>
                    <a:srgbClr val="660066"/>
                  </a:solidFill>
                  <a:latin typeface="Arial"/>
                </a:rPr>
                <a:t>Palabra de enl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35680" y="2914560"/>
              <a:ext cx="163332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1000" spc="-1" strike="noStrike">
                  <a:solidFill>
                    <a:srgbClr val="660066"/>
                  </a:solidFill>
                  <a:latin typeface="Arial"/>
                </a:rPr>
                <a:t>Palabra de enl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76640" y="2914560"/>
              <a:ext cx="1485720" cy="24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1000" spc="-1" strike="noStrike">
                  <a:solidFill>
                    <a:srgbClr val="660066"/>
                  </a:solidFill>
                  <a:latin typeface="Arial"/>
                </a:rPr>
                <a:t>Palabra de enl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93960" y="2658960"/>
              <a:ext cx="144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44880" y="2658960"/>
              <a:ext cx="180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05440" y="2658960"/>
              <a:ext cx="180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446120" y="3127320"/>
              <a:ext cx="44928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93960" y="3127320"/>
              <a:ext cx="44604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408120" y="3127320"/>
              <a:ext cx="53820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44880" y="3127320"/>
              <a:ext cx="53496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5370120" y="3127320"/>
              <a:ext cx="53676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05440" y="3127320"/>
              <a:ext cx="53496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22400" y="3368520"/>
              <a:ext cx="784080" cy="365400"/>
            </a:xfrm>
            <a:prstGeom prst="flowChartAlternateProcess">
              <a:avLst/>
            </a:prstGeom>
            <a:solidFill>
              <a:srgbClr val="bbe0e3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600" spc="-1" strike="noStrike">
                  <a:solidFill>
                    <a:srgbClr val="006600"/>
                  </a:solidFill>
                  <a:latin typeface="Times New Roman"/>
                </a:rPr>
                <a:t>CONCEPTO SECUND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84320" y="3368520"/>
              <a:ext cx="820800" cy="365400"/>
            </a:xfrm>
            <a:prstGeom prst="flowChartAlternateProcess">
              <a:avLst/>
            </a:prstGeom>
            <a:solidFill>
              <a:srgbClr val="bbe0e3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600" spc="-1" strike="noStrike">
                  <a:solidFill>
                    <a:srgbClr val="006600"/>
                  </a:solidFill>
                  <a:latin typeface="Times New Roman"/>
                </a:rPr>
                <a:t>CONCEPTO SECUND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54240" y="3368520"/>
              <a:ext cx="865440" cy="382680"/>
            </a:xfrm>
            <a:prstGeom prst="flowChartAlternateProcess">
              <a:avLst/>
            </a:prstGeom>
            <a:solidFill>
              <a:srgbClr val="bbe0e3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600" spc="-1" strike="noStrike">
                  <a:solidFill>
                    <a:srgbClr val="006600"/>
                  </a:solidFill>
                  <a:latin typeface="Times New Roman"/>
                </a:rPr>
                <a:t>CONCEPTO SECUND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27320" y="3368520"/>
              <a:ext cx="836640" cy="365400"/>
            </a:xfrm>
            <a:prstGeom prst="flowChartAlternateProcess">
              <a:avLst/>
            </a:prstGeom>
            <a:solidFill>
              <a:srgbClr val="bbe0e3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600" spc="-1" strike="noStrike">
                  <a:solidFill>
                    <a:srgbClr val="006600"/>
                  </a:solidFill>
                  <a:latin typeface="Times New Roman"/>
                </a:rPr>
                <a:t>CONCEPTO SECUND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14800" y="3368520"/>
              <a:ext cx="900360" cy="400320"/>
            </a:xfrm>
            <a:prstGeom prst="flowChartAlternateProcess">
              <a:avLst/>
            </a:prstGeom>
            <a:solidFill>
              <a:srgbClr val="bbe0e3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600" spc="-1" strike="noStrike">
                  <a:solidFill>
                    <a:srgbClr val="006600"/>
                  </a:solidFill>
                  <a:latin typeface="Times New Roman"/>
                </a:rPr>
                <a:t>CONCEPTO SECUND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73920" y="3368520"/>
              <a:ext cx="892080" cy="400320"/>
            </a:xfrm>
            <a:prstGeom prst="flowChartAlternateProcess">
              <a:avLst/>
            </a:prstGeom>
            <a:solidFill>
              <a:srgbClr val="bbe0e3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600" spc="-1" strike="noStrike">
                  <a:solidFill>
                    <a:srgbClr val="006600"/>
                  </a:solidFill>
                  <a:latin typeface="Times New Roman"/>
                </a:rPr>
                <a:t>CONCEPTO SECUND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13600" y="3416400"/>
              <a:ext cx="892080" cy="40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MX" sz="600" spc="-1" strike="noStrike" u="sng">
                  <a:solidFill>
                    <a:srgbClr val="006600"/>
                  </a:solidFill>
                  <a:uFillTx/>
                  <a:latin typeface="Times New Roman"/>
                </a:rPr>
                <a:t>2° NIVEL JERARQUÍ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09520" y="4097160"/>
              <a:ext cx="1660680" cy="31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1000" spc="-1" strike="noStrike">
                  <a:solidFill>
                    <a:srgbClr val="660066"/>
                  </a:solidFill>
                  <a:latin typeface="Arial"/>
                </a:rPr>
                <a:t>Palabra de enl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68720" y="4097160"/>
              <a:ext cx="1635120" cy="3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1000" spc="-1" strike="noStrike">
                  <a:solidFill>
                    <a:srgbClr val="660066"/>
                  </a:solidFill>
                  <a:latin typeface="Arial"/>
                </a:rPr>
                <a:t>Palabra de enl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29360" y="4097160"/>
              <a:ext cx="1488960" cy="31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1000" spc="-1" strike="noStrike">
                  <a:solidFill>
                    <a:srgbClr val="660066"/>
                  </a:solidFill>
                  <a:latin typeface="Arial"/>
                </a:rPr>
                <a:t>Palabra de enl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881000" y="3733920"/>
              <a:ext cx="51732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67040" y="4340160"/>
              <a:ext cx="14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25760" y="3733920"/>
              <a:ext cx="51444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940200" y="3733920"/>
              <a:ext cx="51768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41640" y="4340160"/>
              <a:ext cx="18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02280" y="4340160"/>
              <a:ext cx="18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66920" y="4705200"/>
              <a:ext cx="1133280" cy="363600"/>
            </a:xfrm>
            <a:prstGeom prst="flowChartAlternateProcess">
              <a:avLst/>
            </a:prstGeom>
            <a:solidFill>
              <a:srgbClr val="ccff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800" spc="-1" strike="noStrike">
                  <a:solidFill>
                    <a:srgbClr val="ff6600"/>
                  </a:solidFill>
                  <a:latin typeface="Times New Roman"/>
                </a:rPr>
                <a:t>CONCEPTO ESPECÍFIC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25760" y="4705200"/>
              <a:ext cx="1158840" cy="363600"/>
            </a:xfrm>
            <a:prstGeom prst="flowChartAlternateProcess">
              <a:avLst/>
            </a:prstGeom>
            <a:solidFill>
              <a:srgbClr val="ccff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800" spc="-1" strike="noStrike">
                  <a:solidFill>
                    <a:srgbClr val="ff6600"/>
                  </a:solidFill>
                  <a:latin typeface="Times New Roman"/>
                </a:rPr>
                <a:t>CONCEPTO ESPECÍFIC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00720" y="4705200"/>
              <a:ext cx="1179360" cy="363600"/>
            </a:xfrm>
            <a:prstGeom prst="flowChartAlternateProcess">
              <a:avLst/>
            </a:prstGeom>
            <a:solidFill>
              <a:srgbClr val="ccff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800" spc="-1" strike="noStrike">
                  <a:solidFill>
                    <a:srgbClr val="ff6600"/>
                  </a:solidFill>
                  <a:latin typeface="Times New Roman"/>
                </a:rPr>
                <a:t>CONCEPTO ESPECÍFIC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88120" y="4700520"/>
              <a:ext cx="892080" cy="48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MX" sz="600" spc="-1" strike="noStrike" u="sng">
                  <a:solidFill>
                    <a:srgbClr val="ff6600"/>
                  </a:solidFill>
                  <a:uFillTx/>
                  <a:latin typeface="Times New Roman"/>
                </a:rPr>
                <a:t>3° NIVEL JERARQUÍ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17840" y="5313240"/>
              <a:ext cx="163332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1000" spc="-1" strike="noStrike">
                  <a:solidFill>
                    <a:srgbClr val="660066"/>
                  </a:solidFill>
                  <a:latin typeface="Arial"/>
                </a:rPr>
                <a:t>Palabra de enl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66920" y="5676840"/>
              <a:ext cx="1158840" cy="451080"/>
            </a:xfrm>
            <a:prstGeom prst="flowChartAlternateProcess">
              <a:avLst/>
            </a:prstGeom>
            <a:solidFill>
              <a:srgbClr val="ccff66"/>
            </a:solidFill>
            <a:ln w="284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800" spc="-1" strike="noStrike">
                  <a:solidFill>
                    <a:srgbClr val="660033"/>
                  </a:solidFill>
                  <a:latin typeface="Times New Roman"/>
                </a:rPr>
                <a:t>EJEMPLO ESPECÍFIC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13600" y="5592600"/>
              <a:ext cx="98280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600" spc="-1" strike="noStrike" u="sng">
                  <a:solidFill>
                    <a:srgbClr val="660033"/>
                  </a:solidFill>
                  <a:uFillTx/>
                  <a:latin typeface="Times New Roman"/>
                </a:rPr>
                <a:t>4° NIVEL JERARQUÍ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9920" y="1649160"/>
              <a:ext cx="211680" cy="4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67040" y="5070600"/>
              <a:ext cx="1440" cy="60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6148440" y="1798560"/>
              <a:ext cx="1189080" cy="2224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333399"/>
                  </a:solidFill>
                  <a:latin typeface="Arial Black"/>
                </a:rPr>
                <a:t>Palabras</a:t>
              </a:r>
              <a:endPara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333399"/>
                  </a:solidFill>
                  <a:latin typeface="Arial Black"/>
                </a:rPr>
                <a:t>conectoras</a:t>
              </a:r>
              <a:endPara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11320" y="1311120"/>
              <a:ext cx="2146320" cy="365400"/>
            </a:xfrm>
            <a:prstGeom prst="flowChartAlternateProcess">
              <a:avLst/>
            </a:prstGeom>
            <a:solidFill>
              <a:srgbClr val="bbe0e3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600" bIns="39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s-MX" sz="1000" spc="-1" strike="noStrike">
                  <a:solidFill>
                    <a:srgbClr val="333399"/>
                  </a:solidFill>
                  <a:latin typeface="Times New Roman"/>
                </a:rPr>
                <a:t>CONCEPTO CENTR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52600" y="3733920"/>
              <a:ext cx="42876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971800" y="6094440"/>
            <a:ext cx="571500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PR" sz="900" spc="-1" strike="noStrike">
                <a:solidFill>
                  <a:srgbClr val="000000"/>
                </a:solidFill>
                <a:latin typeface="Arial"/>
              </a:rPr>
              <a:t>Mapa Conceptual jerárquico sobre las plantas.</a:t>
            </a:r>
            <a:r>
              <a:rPr b="1" lang="es-PR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RÉDITOS: 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eduteka.org/modulos.php?catx=4&amp;idSubX=8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Continuación:  Mapas de concep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5143680" cy="4952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62120" y="1143000"/>
            <a:ext cx="6400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pa Conceptual jerárquico sobre las pla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400" y="1752480"/>
            <a:ext cx="1218240" cy="42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PR" sz="1200" spc="-1" strike="noStrike">
                <a:solidFill>
                  <a:srgbClr val="000000"/>
                </a:solidFill>
                <a:latin typeface="Arial"/>
              </a:rPr>
              <a:t>Mapa Conceptual jerárquico sobre las plantas.</a:t>
            </a:r>
            <a:r>
              <a:rPr b="1" lang="es-P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ÉDITO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duteka.org/modulos.php?catx=4&amp;idSubX=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Continuación:  Mapas de concep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514332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19120" y="1676520"/>
            <a:ext cx="1492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PR" sz="1200" spc="-1" strike="noStrike">
                <a:solidFill>
                  <a:srgbClr val="000000"/>
                </a:solidFill>
                <a:latin typeface="Arial"/>
              </a:rPr>
              <a:t>Mapa Conceptual jerárquico sobre las plantas.</a:t>
            </a:r>
            <a:r>
              <a:rPr b="1" lang="es-P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ÉDITO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duteka.org/modulos.php?catx=4&amp;idSubX=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534160" cy="5562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3520" y="5950080"/>
            <a:ext cx="80769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PR" sz="1200" spc="-1" strike="noStrike">
                <a:solidFill>
                  <a:srgbClr val="000000"/>
                </a:solidFill>
                <a:latin typeface="Arial"/>
              </a:rPr>
              <a:t>Mapa Conceptual jerárquico sobre las plantas.</a:t>
            </a:r>
            <a:r>
              <a:rPr b="1" lang="es-P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ÉDITO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duteka.org/modulos.php?catx=4&amp;idSubX=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http://www.eduteka.org/reportaje.php3?ReportID=0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http://www.eduteka.org/modulos.php?catx=4&amp;idSubX=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http://www.eduteka.org/Editorial11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http://bvs.sld.cu/revistas/ems/vol21_3_07/ems07307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http://www.uprm.edu/ideal/avaluo-sala.sw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Organizadores gráfic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p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ómo se represen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Al finalizar la clase el estudiante podr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  <a:ea typeface="DejaVu Sans"/>
              </a:rPr>
              <a:t> 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  <a:ea typeface="DejaVu Sans"/>
              </a:rPr>
              <a:t>Definir mapa de concep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  <a:ea typeface="DejaVu Sans"/>
              </a:rPr>
              <a:t> 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  <a:ea typeface="DejaVu Sans"/>
              </a:rPr>
              <a:t>Explicar qué es un concepto, palabras de enlace y una proposi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  <a:ea typeface="DejaVu Sans"/>
              </a:rPr>
              <a:t> 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  <a:ea typeface="DejaVu Sans"/>
              </a:rPr>
              <a:t>Identificar la importancia de los mapas de conceptos en la edu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  <a:ea typeface="DejaVu Sans"/>
              </a:rPr>
              <a:t> 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  <a:ea typeface="DejaVu Sans"/>
              </a:rPr>
              <a:t>Producir un mapa de conceptos utilizando un programa de aplic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4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Fueron ideados por Joseph D. Novak para poner en práctica el modelo de aprendizaje significativo de David Ausub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Los mapas de conceptos son una herramienta para fortalecer el aprendizaje signific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Este instrumento fue creado para guiar a los estudiantes a aprender y a organizar los materiales de aprendizaje o para encontrar los procedimientos a seguir en la representación del conocimiento, </a:t>
            </a:r>
            <a:r>
              <a:rPr b="0" lang="es-PR" sz="2800" spc="-1" strike="noStrike" u="sng">
                <a:solidFill>
                  <a:srgbClr val="ccccff"/>
                </a:solidFill>
                <a:uFillTx/>
                <a:latin typeface="Arial"/>
              </a:rPr>
              <a:t>organización de los materiales de aprendizaje</a:t>
            </a:r>
            <a:r>
              <a:rPr b="0" lang="es-PR" sz="28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o para encontrar procedimientos para la solución de probl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Continuación:  Mapas de concep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295280"/>
            <a:ext cx="8305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Son una forma de representar gráficamente la relación que se establece entre diversos concep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4597a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PR" sz="2800" spc="-1" strike="noStrike">
                <a:solidFill>
                  <a:srgbClr val="4597a0"/>
                </a:solidFill>
                <a:latin typeface="Arial"/>
              </a:rPr>
              <a:t>Puntos impor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  <a:ea typeface="DejaVu Sans"/>
              </a:rPr>
              <a:t>Los mapas permiten ordenar conceptos previos que conoces, comprender el significado de los nuevos que aprendes, relacionar los conceptos con los previos, clasificar y jerarquizar conceptos claves y relev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Tienen su origen en las teorías sobre la psicología del aprendizajes de David Ausub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  <a:ea typeface="DejaVu Sans"/>
              </a:rPr>
              <a:t>Técnicas o métodos de aprendizaje cuya función es ayudar a la comprensión de los conocimientos que el alumno tiene que apren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Continuación:  Mapas de concep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00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DORES GRÁFICOS CONCEPT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  <a:ea typeface="DejaVu Sans"/>
              </a:rPr>
              <a:t>Técnica para organizar y representar información en forma visual que debe incluir conceptos y relaciones que al enlazarse arman proposiciones. Cuando se construyen pueden tomar una de estas form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Lineales tipo Diagrama de Flu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stémicos - con información ordenada de forma lineal con ingreso y salida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1800" spc="-1" strike="noStrike">
                <a:solidFill>
                  <a:srgbClr val="000000"/>
                </a:solidFill>
                <a:latin typeface="Arial"/>
                <a:ea typeface="DejaVu Sans"/>
              </a:rPr>
              <a:t>Jerárquicos - cuando la información se organiza en orden ascendente o descend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000" spc="-1" strike="noStrike">
                <a:solidFill>
                  <a:srgbClr val="000000"/>
                </a:solidFill>
                <a:latin typeface="Arial"/>
                <a:ea typeface="DejaVu Sans"/>
              </a:rPr>
              <a:t>Son valiosos para construir conocimiento y desarrollar habilidades de pensamiento de orden superior, ya que permiten procesar, organizar y priorizar nueva información, identificar ideas erróneas y visualizar patrones e interrelaciones entre diferentes concep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Continuación:  Mapas de concep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En un mapa conceptual dos o más conceptos están unidos por una palabra o frase que describe el porqué de esa re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Visualmente, muestran las relaciones entre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Dos o más conceptos se ligan a través de palabras que describen esta re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El mapa de conceptos permite resumir una serie de términos de forma jerárqu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Contienen lo más esencial del tema o de la idea explic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Continuación:  Mapas de concep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ejercicio de elaboración de mapas conceptuales fomenta la reflexión, el espíritu crítico y la creativida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componen básicamente de tres element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cep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DejaVu Sans"/>
              </a:rPr>
              <a:t>Se refiere a hechos, objetos, cualidades y animales, entre otros. Gramaticalmente, los conceptos se identifican como nombres, adjetivos y pronomb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labras de en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DejaVu Sans"/>
              </a:rPr>
              <a:t>Son los verbos, las preposiciones, las conjunciones, los adverbios y en general, todas las palabras que no sean un concepto (sustantiv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DejaVu Sans"/>
              </a:rPr>
              <a:t>Es la frase con un significado determinado que se forma por dos o más conceptos unidos por palabras enl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PR" sz="4000" spc="-1" strike="noStrike">
                <a:solidFill>
                  <a:srgbClr val="000000"/>
                </a:solidFill>
                <a:latin typeface="Arial"/>
              </a:rPr>
              <a:t>Continuación:  Mapas de concep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ómo se represen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DejaVu Sans"/>
              </a:rPr>
              <a:t>El mapa conceptual es una serie de líneas que se unen en distintos puntos por medio de dos elementos gráficos: la elipse, óvalo o 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ágen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y la lín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DejaVu Sans"/>
              </a:rPr>
              <a:t>Los conceptos se colocan dentro de la elipse, mientras las palabras enlace se escriben sobre o junto a la línea que une los concepto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DejaVu Sans"/>
              </a:rPr>
              <a:t>La forma dependerá de cómo se van uniendo é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077320" y="5791320"/>
            <a:ext cx="685800" cy="685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0:49:41Z</dcterms:created>
  <dc:creator>lupe</dc:creator>
  <dc:description/>
  <dc:language>en-US</dc:language>
  <cp:lastModifiedBy>Maria Rosa</cp:lastModifiedBy>
  <dcterms:modified xsi:type="dcterms:W3CDTF">2008-09-26T02:28:37Z</dcterms:modified>
  <cp:revision>61</cp:revision>
  <dc:subject/>
  <dc:title>MAPAS DE CONCEPTOS</dc:title>
</cp:coreProperties>
</file>